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EDD-81FD-4EE3-83F0-30CFF7CE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505-F939-48D3-A17D-D24AC628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1B2-ED32-4972-A3DB-D7510601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F26-7F8F-41B5-A74A-547BC588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C98-7C0F-4C8D-8515-5D17B20D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E4EC-969A-4279-848C-CABF5412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468E-A7CE-41A2-9668-C52077E2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6E74-05E5-4018-815F-BA61EBC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B0FF-AE22-4F7C-ADC1-F7538BB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5931-4B37-4CDC-9460-15639FD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9B68-1EE3-4F8B-B74D-2356AAC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FE3-C6FE-4AAE-841A-889789B5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763-3BD3-402F-ADB2-B593B67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C53-6845-4E50-9437-5B3ECF4F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6C3-E4EB-49F8-BEAC-D73A8E7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857D-9443-4B9A-8F1D-4F811941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D8ED-D238-4FD6-844B-0EB8ED89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FFA-65E3-4A25-8783-1C87BB4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84D-ED3D-4694-979F-87140113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8F9-EE78-4E80-BD66-6EE5C957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130-F1C7-4572-9278-2C5E16C6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5C7-4D1A-4C10-BCA6-2582B3D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91B-7AB7-46EA-9CFB-3EA74C4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A36-564E-4B19-B479-606B59A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D7D-779F-447F-BFC5-049DC79FF0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D3E-C80D-4FD0-A5C8-A4E1773DCFE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4-10-24T07:26:35Z</dcterms:modified>
  <cp:revision>3</cp:revision>
  <dc:subject/>
  <dc:title>The Four Domains of  Teaching Responsibility</dc:title>
</cp:coreProperties>
</file>